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F5A-A0E7-4ED9-BCE6-D104DC1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BAD-3462-48CD-8994-8F74DC04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557-3BD1-4925-AE27-C58C83FD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61-79E5-44B9-B83C-D5B202AA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6CC-4E1E-4169-BB50-3F13F649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58E-955E-4622-B350-491B838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553-588F-428E-B574-29881C89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F75-18D7-4CCE-935F-7E00E73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EF1-F174-4E7D-8048-834F386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DD8F-09AE-4486-ACA2-04CCC92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A57-81E0-497B-A992-E5332D3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3D5-1098-4A2A-A6AA-01A67AE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84F9-3071-48CD-AEEB-2C9878FF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Solving%20Multi%20Step%20equations.noteboo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implify%20and%20solve.notebook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Some MORE ste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0920" y="3429000"/>
            <a:ext cx="1523880" cy="838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438280"/>
            <a:ext cx="990720" cy="2133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57200"/>
            <a:ext cx="1371600" cy="228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38280" y="685800"/>
                <a:ext cx="5257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914400"/>
            <a:ext cx="198108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s you usually w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137160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53352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762120"/>
            <a:ext cx="99072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1600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743200"/>
            <a:ext cx="106668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28800" y="2590920"/>
                <a:ext cx="4370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886200"/>
            <a:ext cx="251460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you have to get rid of the x on the right side of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267080" y="3352680"/>
                <a:ext cx="1289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3429000"/>
                <a:ext cx="1288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49568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35268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4495680"/>
            <a:ext cx="18288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895480" y="4495680"/>
                <a:ext cx="354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5867280"/>
            <a:ext cx="213372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by dividing both sides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4100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54100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5334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334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648320"/>
            <a:ext cx="99072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5562720"/>
            <a:ext cx="99036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629400" y="6049800"/>
                <a:ext cx="22096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steps of solving this equation in the right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33360" y="35812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oth sides b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2x to both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4 to both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23880" y="2057400"/>
                <a:ext cx="609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88620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417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happens if the equation is not simpl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43200"/>
            <a:ext cx="8458200" cy="703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SIMPLIFY first and then solv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752480" y="4114800"/>
                <a:ext cx="6096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533520"/>
            <a:ext cx="1828800" cy="13716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"/>
            <a:ext cx="1676520" cy="1523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43000" y="533520"/>
                <a:ext cx="74232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828800" y="2133720"/>
            <a:ext cx="396252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TILES to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19320" y="3048120"/>
            <a:ext cx="1676160" cy="2286000"/>
            <a:chOff x="1219320" y="3048120"/>
            <a:chExt cx="1676160" cy="2286000"/>
          </a:xfrm>
        </p:grpSpPr>
        <p:sp>
          <p:nvSpPr>
            <p:cNvPr id="51" name=""/>
            <p:cNvSpPr/>
            <p:nvPr/>
          </p:nvSpPr>
          <p:spPr>
            <a:xfrm>
              <a:off x="121932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00400" y="3733920"/>
            <a:ext cx="457200" cy="1218960"/>
            <a:chOff x="3200400" y="3733920"/>
            <a:chExt cx="457200" cy="1218960"/>
          </a:xfrm>
        </p:grpSpPr>
        <p:sp>
          <p:nvSpPr>
            <p:cNvPr id="55" name=""/>
            <p:cNvSpPr/>
            <p:nvPr/>
          </p:nvSpPr>
          <p:spPr>
            <a:xfrm>
              <a:off x="3200400" y="3733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44956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62520" y="3048120"/>
            <a:ext cx="457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048120"/>
            <a:ext cx="0" cy="236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276720"/>
            <a:ext cx="1676160" cy="2057400"/>
            <a:chOff x="5334120" y="3276720"/>
            <a:chExt cx="1676160" cy="2057400"/>
          </a:xfrm>
        </p:grpSpPr>
        <p:sp>
          <p:nvSpPr>
            <p:cNvPr id="60" name=""/>
            <p:cNvSpPr/>
            <p:nvPr/>
          </p:nvSpPr>
          <p:spPr>
            <a:xfrm>
              <a:off x="594360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4360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4360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412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412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412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308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5308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5715000"/>
            <a:ext cx="86868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 x tiles together and remove any that cancel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362320" y="2743200"/>
            <a:ext cx="2209680" cy="2971800"/>
            <a:chOff x="2362320" y="2743200"/>
            <a:chExt cx="2209680" cy="29718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886200" y="2743200"/>
              <a:ext cx="685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362320" y="2743200"/>
              <a:ext cx="68580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05320" y="1523880"/>
            <a:ext cx="1752480" cy="28958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e the formula and sol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28800" y="1828800"/>
                <a:ext cx="55879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80988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16765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752480"/>
            <a:ext cx="167652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819520"/>
            <a:ext cx="167652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4343400"/>
                <a:ext cx="3510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743200" y="5334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533412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181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5181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419720"/>
            <a:ext cx="68580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562720"/>
            <a:ext cx="68580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343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and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981080"/>
            <a:ext cx="48006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use tiles to simplify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706400" y="2971800"/>
                <a:ext cx="6035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6576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x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solve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743200" y="1676520"/>
                <a:ext cx="53341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1752480"/>
            <a:ext cx="2362320" cy="9471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, think of t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63760" y="2590920"/>
            <a:ext cx="2360520" cy="2257560"/>
            <a:chOff x="2363760" y="2590920"/>
            <a:chExt cx="2360520" cy="2257560"/>
          </a:xfrm>
        </p:grpSpPr>
        <p:sp>
          <p:nvSpPr>
            <p:cNvPr id="101" name=""/>
            <p:cNvSpPr/>
            <p:nvPr/>
          </p:nvSpPr>
          <p:spPr>
            <a:xfrm>
              <a:off x="236376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08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392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421160" y="2590920"/>
            <a:ext cx="2360520" cy="2257560"/>
            <a:chOff x="4421160" y="2590920"/>
            <a:chExt cx="2360520" cy="2257560"/>
          </a:xfrm>
        </p:grpSpPr>
        <p:sp>
          <p:nvSpPr>
            <p:cNvPr id="107" name=""/>
            <p:cNvSpPr/>
            <p:nvPr/>
          </p:nvSpPr>
          <p:spPr>
            <a:xfrm>
              <a:off x="442116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132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132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992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54520" y="2590920"/>
            <a:ext cx="2360520" cy="2257560"/>
            <a:chOff x="6554520" y="2590920"/>
            <a:chExt cx="2360520" cy="2257560"/>
          </a:xfrm>
        </p:grpSpPr>
        <p:sp>
          <p:nvSpPr>
            <p:cNvPr id="113" name=""/>
            <p:cNvSpPr/>
            <p:nvPr/>
          </p:nvSpPr>
          <p:spPr>
            <a:xfrm>
              <a:off x="655452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484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2468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4724280"/>
            <a:ext cx="3657600" cy="398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3 sets of these 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486400"/>
            <a:ext cx="2895840" cy="8625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like tiles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505320" y="5257800"/>
                <a:ext cx="4038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191120" y="6248520"/>
            <a:ext cx="2133360" cy="398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SOL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81080" y="2666880"/>
            <a:ext cx="3200400" cy="45720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the Same Equation Mathema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05120" y="1828800"/>
                <a:ext cx="53337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8600" y="1752480"/>
            <a:ext cx="1600200" cy="2288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ust multiply everything inside the bracket by the number outside the br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1447920"/>
            <a:ext cx="1447920" cy="5047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7400" y="3581280"/>
                <a:ext cx="1295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49568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81280" y="3581280"/>
                <a:ext cx="15242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410080" y="350532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952880"/>
            <a:ext cx="457200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solve as usu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 Some Prac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 your answers into your responders as you solve each to make sure you are “getting” it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how your work on your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 what happens if you have a variable (letter) on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bo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23880" y="2362320"/>
                <a:ext cx="60962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066680" y="4191120"/>
            <a:ext cx="685800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 deep breath and realize that there is just ONE MORE STEP and you already know how to deal with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5486400"/>
            <a:ext cx="5715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till have to get all the numbers on one side of the equation and all the letters on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2:51:23Z</dcterms:created>
  <dc:creator>admin</dc:creator>
  <dc:description/>
  <dc:language>en-US</dc:language>
  <cp:lastModifiedBy>admin</cp:lastModifiedBy>
  <dcterms:modified xsi:type="dcterms:W3CDTF">2008-03-30T15:43:03Z</dcterms:modified>
  <cp:revision>11</cp:revision>
  <dc:subject/>
  <dc:title>Now Some MORE steps…</dc:title>
</cp:coreProperties>
</file>